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EF5-F515-439B-8B17-ECAB90750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7E4-736C-48BE-BD04-5F8447B0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4071-C6D4-4AFA-B706-D7EB201C2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067A-757B-417E-8BC2-0C8D46D4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12EA-D630-4594-8DC1-B1AFB219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49DB-F63A-40C6-AF13-C3C49DE6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7AE4-337C-4C6A-A334-1BA62A60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95C0-094E-4A6F-8C0A-19997220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0668-19C9-47D0-90F6-735791EA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4654-EE16-49DF-8B6C-61D8B01D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9D1B-0A3A-4AFD-81D9-8762A7C3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CE8-FB1B-4A5B-9CB0-1D2960DF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9837-EAF4-4B32-ADA5-48057C67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A848-C94A-4A6D-8DF2-9C7F1B58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1835-4D31-4919-8DB3-20EC28C3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07FB-8CA3-41F9-8B74-88A4B17E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37AF-0B83-48BD-B37A-A6349A6F8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9B2C-473E-4443-A2E8-5523C392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BC5E-C14D-44BF-BFF6-4C7EB58B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508-32E3-4FD6-80EF-0152F51C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6C0-BB26-40E7-8B19-EEB9A7EA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8C3-4A6B-46C2-9BB7-D3D00181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897-D80D-4C1D-9747-A3A8548A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C2C-9884-460B-98BD-18036990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6777-083E-419C-B53F-58BA77C80E0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5CD5-D501-4541-AA57-C6E6D5D2E21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Basketball’s Effects and Influenc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ylor Heat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presentation has been prepared under the fair use exemption of the US Copyright Law and is restricted from further use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le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plan on becoming either a Basketball coach or a Physical Education teache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took away from this project that I can teach kids pretty well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erdana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ork Cite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"History of Basketball." 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Sports Stop Sta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 ORACLE, Web. 9 Sep. 2010. &lt;http://library.thinkquest.org/10615/no-frames/basketball/history.html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lliams, Sandra. "Toronto basketball program keeps kids off street."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Exanimer.com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 N.p., Web. 18 Nov. 2009. &lt;http://www.examiner.com/teen-parenting-in-toronto/toronto-basketball-program-keeps-kids-off-street&gt;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erest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sketball is my favorite sport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’ve liked it since I was 5 years ol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try to play it everyday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nted to do project on something I really enjoyed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ap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pic: Basketball’s Influen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iving Question: How has basketball influenced youth in America and other countri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sis Statement: The effects and influences the game of basketball has on other countries as well as the United States is very substantial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Key Facts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ide from soccer, basketball is a leading sport in Europ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sketball is a great tool for keeping kids off the stree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sketball teaches kids how to work on a team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mmary of Research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 learned that basketball is much bigger in Europe than I expecte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professional basketball players in the U.S. are more famous in Chin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du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made a survey for a third grade class asking if and where they played basketbal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planned a basketball tournament at my high school during lunch time and at West New Bern Rec Cent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taught a P.E. class at Trent Park Elementary School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Final Presentation Video_0001.wmv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duc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Kids I taught at Trent Park were really excited for me to teach them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y had to earn the privilege by behaving in their clas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ame I taught them required teamwork and cooper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showed me that basketball can really teach kids teamwork even at a young age and that is something that they will have to use later in lif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uccesses and Challeng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me Management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ying on Tas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rastination was challenging because I tend to put things off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5335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cces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tting everything d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arning how to ask questions effectivel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aching a cla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13:42:46Z</dcterms:created>
  <dc:creator>CEC131</dc:creator>
  <dc:description/>
  <dc:language>en-US</dc:language>
  <cp:lastModifiedBy>Theresa</cp:lastModifiedBy>
  <dcterms:modified xsi:type="dcterms:W3CDTF">2011-05-24T03:09:12Z</dcterms:modified>
  <cp:revision>10</cp:revision>
  <dc:subject/>
  <dc:title>Slide 1</dc:title>
</cp:coreProperties>
</file>